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00068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400068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4000680"/>
            <a:ext cx="2698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400068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000680"/>
            <a:ext cx="8382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5800" indent="-325800">
              <a:spcBef>
                <a:spcPts val="700"/>
              </a:spcBef>
              <a:buClr>
                <a:srgbClr val="000a5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25800" indent="-325800">
              <a:spcBef>
                <a:spcPts val="700"/>
              </a:spcBef>
              <a:buClr>
                <a:srgbClr val="000a52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80880" y="76320"/>
            <a:ext cx="327672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2b2b2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a52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entley.com/files/events/geopak_archive/winter/track3/2002wugbridge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342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ing with InRo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57200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Jeff Martin, P.E.,  Civil XLR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1295280"/>
          <a:ext cx="792504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792504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562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ilds directly from the traditional roadway design methodology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orizontal Geome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1600200"/>
          <a:ext cx="80010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arting with a 2-D Horizontal Alignment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124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Roads Supports a rich toolset to import and create Horizontal Alignm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mnu_Geom_markup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5114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3505320"/>
          <a:ext cx="8153640" cy="32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15364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Vertical Geometry: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milar broad toolset for the Vertical Alignm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mnu_Geom_vert_markup" descr=""/>
          <p:cNvPicPr/>
          <p:nvPr/>
        </p:nvPicPr>
        <p:blipFill>
          <a:blip r:embed="rId3"/>
          <a:srcRect l="0" t="0" r="31610" b="43339"/>
          <a:stretch/>
        </p:blipFill>
        <p:spPr>
          <a:xfrm>
            <a:off x="4343400" y="1295280"/>
            <a:ext cx="4533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ully customizable annot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2057400"/>
          <a:ext cx="6005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005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flat_w_vert" descr=""/>
          <p:cNvPicPr/>
          <p:nvPr/>
        </p:nvPicPr>
        <p:blipFill>
          <a:blip r:embed="rId1"/>
          <a:stretch/>
        </p:blipFill>
        <p:spPr>
          <a:xfrm>
            <a:off x="0" y="1371600"/>
            <a:ext cx="8825040" cy="5246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alignment in 3D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yp_section_white" descr=""/>
          <p:cNvPicPr/>
          <p:nvPr/>
        </p:nvPicPr>
        <p:blipFill>
          <a:blip r:embed="rId1"/>
          <a:srcRect l="0" t="7928" r="0" b="0"/>
          <a:stretch/>
        </p:blipFill>
        <p:spPr>
          <a:xfrm>
            <a:off x="228600" y="1676520"/>
            <a:ext cx="8534520" cy="4755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ypical Sections: from specification..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..to the InRoads Typical Section Libra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frmTypSectionEdit_4laneUrban_markedup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6866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Intelligence is easy to add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828800"/>
            <a:ext cx="79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is an intelligent Engineering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urf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“GIS”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odel all features with engineering significance, at-grade, above- or below gr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enough for constru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523880" y="1990800"/>
          <a:ext cx="6678720" cy="48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90800"/>
                    <a:ext cx="66787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Roads “drops the template” at an interval &amp; creates intelligent features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orking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Arial"/>
              </a:rPr>
              <a:t> with InRoad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666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fundamental concepts in InRoads and how you can evaluate, debug, and draft InRoads engineering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fter “pushing the templates”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2133720"/>
          <a:ext cx="7924680" cy="43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792468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cessing the Intelligen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featureprop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4292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Utilizing the Intelligen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3886200"/>
          <a:ext cx="8686800" cy="28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86200"/>
                    <a:ext cx="868680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990720" y="220968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InRoads DTM is intelligent, InRoads knows how to display the various engineering features, AUTOMATICALLY conforming to CADD standards, include the appropriate use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t just a pretty picture..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600200"/>
          <a:ext cx="78483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483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5410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curate Engineering Model which can include features that are not part of the triangle mesh, such as over- and underpasses and underground ut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t just a 2D x 3 syste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600200"/>
          <a:ext cx="78483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8483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4920" y="51228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rue 3D allows the traditional 2D representations (Plan, Profile, and Cross Section) without limit or rest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you can cut Profiles and CrossSections any where and any way.  Laser-guided scrapers can work straight off the data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odel Editing Tools (not graphics-only editing too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5670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to edit the 2D graphic representation of a 3D element (three times: Plan, Profile, Cross Section). InRoads tools work on the model: edit once, refresh twice (at mo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57600" y="2286000"/>
          <a:ext cx="359100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86000"/>
                    <a:ext cx="35910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 Building Too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86200" y="2209680"/>
          <a:ext cx="514512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514512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frmGLFControls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3752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lanset Produc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133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the engineering model, InRoads has all the tools to get it that mostly obsolete communication tool: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ustomizabl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Graphic InRoads places is customiz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aditional Representa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133720"/>
            <a:ext cx="8153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Roads has exhaustively customizable tools to create and manage the traditional representations of civil engineering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and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05320"/>
          <a:ext cx="8153640" cy="32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15364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eff Martin, P.E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5146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Involved with InRoads in 1992 when I worked at Intergraph in Huntsv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n implementing, training, developing training, or doing production work with the InRoads products ever si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 E. in California and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a: Civil XLR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CivilXLR8.com or CivilHel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aditional” Profile Annot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frmAnnotateProfile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4610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aditional Represent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xsec_sheets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491680" cy="442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Roads manages the representation of data in the Traditional Represent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9548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Roads make full use of the intelligent model in managing display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ithout having to re-draw the Profiles or Cross Sections, InRoads tools allow you to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74320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On/Off the display of any of the features in the model in Plan, Profile and 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the Display (Symbology) of any feature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/Remove additional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(Synchronize) the graphics in Plan, Profile or 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tate Features in Plan Profile or 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rafting Tool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frmDrafting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057920" cy="40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21337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Place Notes” tools allow individual placement of notes, reading the Intelligence of the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2667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lan &amp; Profile Generato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frmPnPGenerator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181480" cy="5286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40384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s Corridor-based Plan &amp; Profile sheet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hat is InRoads?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Roads is the premiere 3D Civil Engineering Mode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Roads is a robust Planset Produ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Roads: A 3-D Engineering Model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2057400"/>
          <a:ext cx="78487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8487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Roads: Planset Produc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npsheet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81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dustry still mostly 2D: primary deliverables are 2D Planse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npsheet_blue_small" descr=""/>
          <p:cNvPicPr/>
          <p:nvPr/>
        </p:nvPicPr>
        <p:blipFill>
          <a:blip r:embed="rId1"/>
          <a:stretch/>
        </p:blipFill>
        <p:spPr>
          <a:xfrm>
            <a:off x="1600200" y="2239920"/>
            <a:ext cx="5638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p_section_white" descr=""/>
          <p:cNvPicPr/>
          <p:nvPr/>
        </p:nvPicPr>
        <p:blipFill>
          <a:blip r:embed="rId1"/>
          <a:srcRect l="0" t="7928" r="0" b="0"/>
          <a:stretch/>
        </p:blipFill>
        <p:spPr>
          <a:xfrm>
            <a:off x="228600" y="1676520"/>
            <a:ext cx="8534520" cy="4755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ypical Sections: 2D specific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QC Proces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28600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x 3: Plan, Profile, &amp; Cross-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are also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QC: View Surface (contours, color coded slopes) tend to be inter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4:16:05Z</dcterms:created>
  <dc:creator>Cathy Newell</dc:creator>
  <dc:description/>
  <dc:language>en-US</dc:language>
  <cp:lastModifiedBy>Jeffrey A. Martin</cp:lastModifiedBy>
  <dcterms:modified xsi:type="dcterms:W3CDTF">2003-10-23T23:42:38Z</dcterms:modified>
  <cp:revision>18</cp:revision>
  <dc:subject/>
  <dc:title>PowerPoint Presentation</dc:title>
</cp:coreProperties>
</file>